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56FC8-454F-4C69-B003-5CAEB0CCA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02376-34F8-464B-8630-A4D7F4975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C0E5A-F232-4E0E-AABF-FEB257A64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8BCE9-306F-4D0C-93B6-6C07DB650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46964-2947-4E30-8827-0B8B24FA8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137C1-E314-436E-A1C9-ABD2A9173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7BCC5-E02D-4DF0-857D-B9AF08D4C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7A9D1-DBE8-460A-AF71-B16A43E73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A45AD-0D5D-4208-BDF9-880A3E59F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4C85F-9746-439F-8BE6-FF20DB6C4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56A92-01FE-4C73-80F3-5B7BF78A6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071CA-2F78-4165-AE5D-F312C5F58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247FC-8C66-43B4-9E84-A4BE8BBC40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Spheres</a:t>
            </a:r>
            <a:br>
              <a:rPr sz="7200"/>
            </a:b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of </a:t>
            </a:r>
            <a:br>
              <a:rPr sz="7200"/>
            </a:b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Consciousnes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7162920" y="457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160" y="1447560"/>
            <a:ext cx="79246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Human Cond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Percep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understood as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Re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iance upon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Valid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Three Level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Perce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verything happens for a reason.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t’s just a matter of moving your point of view around until you see i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do we 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validat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thing we cannot 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perceiv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133720" y="2971800"/>
            <a:ext cx="3962160" cy="3657600"/>
          </a:xfrm>
          <a:prstGeom prst="ellipse">
            <a:avLst/>
          </a:prstGeom>
          <a:solidFill>
            <a:srgbClr val="bbe0e3">
              <a:alpha val="3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200400" y="4038480"/>
            <a:ext cx="914400" cy="9144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86200" y="3962520"/>
            <a:ext cx="1447920" cy="1295280"/>
          </a:xfrm>
          <a:prstGeom prst="ellipse">
            <a:avLst/>
          </a:prstGeom>
          <a:solidFill>
            <a:srgbClr val="00ffff">
              <a:alpha val="4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352680" y="5257800"/>
            <a:ext cx="914400" cy="9144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dividual Self Sphe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st developed perce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ild consciousness = ‘mine!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s ‘Here and now’ as the only re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sonality-ba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-identification with personal nee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s to think in terms of ‘all or nothing’, ‘mine or yours’, ‘win or lose’ dualities featuring ‘OR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icknames: 100/100, ISS, Dualistic thi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iversal Self Sphe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able to see other points of 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ult AND Child consciousness, ‘ours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epts limits of human perce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umanity-ba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iders that there may be a larger reality that cannot be fully known yet may be experienced occasion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lling to consider thinking in terms of ‘mine and yours’, ‘win/win’, featuring ‘AND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icknames: 50/50, USS, Unitive Thi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iversal Sphe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based upon Human Re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scious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based upon our sense of Ego Sel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rienced (for only a few moments at a time) as a sense of peace and safety without the need for strugg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iritually based / Enlighte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icknames: 100, US, Unitive, God Sp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447920" y="4800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erarchy of Human Needs and Prior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523880" y="380880"/>
            <a:ext cx="6096240" cy="533412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ir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ot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962520" y="167652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352680" y="106668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76720" y="259092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057400" y="4800600"/>
            <a:ext cx="5105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666880" y="3733920"/>
            <a:ext cx="3810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ask of development is to bring all unconscious aspects into conscious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niversal Intelligence does not push itself on man unbidden.”  PRS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09680" y="0"/>
            <a:ext cx="4648320" cy="388620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057400" y="3301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33520"/>
            <a:ext cx="2149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228600"/>
            <a:ext cx="63244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cious Ego Mi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consci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conscious Mi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609120" y="762120"/>
            <a:ext cx="4343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609120" y="1523880"/>
            <a:ext cx="4800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8T19:47:31Z</dcterms:created>
  <dc:creator>Jan Rigsby, Pathwork Helper Rigsby</dc:creator>
  <dc:description/>
  <dc:language>en-US</dc:language>
  <cp:lastModifiedBy>Jan Rigsby, Pathwork Helper Rigsby</cp:lastModifiedBy>
  <cp:lastPrinted>2009-08-28T21:50:59Z</cp:lastPrinted>
  <dcterms:modified xsi:type="dcterms:W3CDTF">2009-08-29T14:27:31Z</dcterms:modified>
  <cp:revision>4</cp:revision>
  <dc:subject/>
  <dc:title>The Human Condition</dc:title>
</cp:coreProperties>
</file>